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1F5183-2C20-4AB9-BA73-62D34E76B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" Target="../slides/slide20.xml"/><Relationship Id="rId1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13FB68-DC21-46CE-9EAF-4F856B39E1D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AE36FB-9091-4A6E-BFB6-1448FE992EE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ED19BE-7E4D-4995-AB4B-BEA2E05C6C0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47D563-3812-470B-B191-8BBE65583B3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3EA40A-9837-4ECF-9725-AB1C43DD136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покрытой …             , большое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F3F12A-7287-468E-BB5C-41698C1BAEB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7AD191-9396-4D0E-8E11-064B576391A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952741-24BE-4667-8CCC-00FB34C058A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143DE1-8B68-4220-B201-15C007A3F8E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РОВ ВРАНГ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рганизован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зовую чайку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вцебы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елые гус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473A64-4608-4EE5-B600-8D678BE7BE8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B676E6-05A7-4974-B71A-96CD735ABF0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Самое большое озеро в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неж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спий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2. Река, впадающая в Каспийское мор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Д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3. Река, соединяющая озеро Байкал с Северным Ледовитым океано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ни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4. Самая длинная река Росс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5. В список Всемирного наследия внес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Бело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Озеро Бай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6. Какие озёра в народе называют «Онего-батюшко и Ладога-матушка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Аральское и Каспийское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lphaLcParenR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адожское и Онежское оз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D5F738-B3F9-4ABF-99D5-A06B8DA4708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khabphoto.ru/gallery.php?gallery_id=334&amp;mode=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angel-killmysoulkillme.net/2012/02/15-200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http://900igr.net/kartinki/geografija/Bezmolvnaja-Arktika/062-Problemy-Arktiki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http://rsnews.net/index.phtml?show=article&amp;id=7303&amp;lang=R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http://www.mota.ru/wallpapers/get/id/1007/resolution/320x4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ttp://good-fon.ru/gdefon/allwallpapers/full/257113-newwallpap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http://www.russian-travels.ru/foto2/shyrotka/g_3.php?number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http://900igr.net/fotografii/geografija/Bezmolvnaja-Arktika/049-Zapovednik-Ostrov-Vrangelj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http://my-sedovo.narod.ru/RPUACO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http://travel.ria.ru/photo/20101217/222973526_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6C12C0-8987-42B4-B04E-F784D7A7A18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89516E-F3AB-4BF5-A3FF-FB916FF9EE8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1F4E93-4618-4D06-BCFE-D07C5F48612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34FE24-373A-438A-928F-E973D82604B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7FEB20-19AA-4309-B7E2-9FA3C345F10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ВЕРОЕ С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9D4CE5-F8BD-40FF-937A-54D2DC062B9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53645E-57D7-4EF0-8A4F-2EFA4307697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682F2B-8B87-4940-BFF1-C66A3CDE68E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BC9-61AB-4782-BA50-CCE1E8CE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7B4-F231-4A5C-86D4-66751C21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B1C-3AC5-4991-ACA5-A13CD0BE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9D4-95EC-4CA0-B0C5-2ECB69EF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5800-F855-4255-8DBE-7B4AE751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E8CC-BABF-4806-AF86-960E5B1B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05D-4553-427F-8B3A-DDB25EF7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CE39-0064-4AAA-A1C8-ABBB8529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4FD1-E755-4439-86F2-16BF48AA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75D9-06EC-4C67-B3DA-46F345F1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56EE-C13A-43D6-92D3-45F6E7B2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6C7-83F6-4998-B1DB-BD77B13C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3310-DE94-4F20-903B-00732400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91AA-E628-44C3-9175-C8CEDBE8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3B3D-866F-4CDE-A083-33ACAE10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4E3F-E257-4D21-8CEC-9AE7BCE8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9991-DBBD-4F77-BA2D-65ABDEDA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A7C-BF9A-4E7C-A895-BACC4B34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3B1-2B38-44ED-A922-FBE9619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839-DDB5-4127-8286-42D37E40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922-37FF-471D-9ED1-87AE4E9E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4F6-FCA7-4DBD-AC75-A54C550C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1E9-6BFE-43DF-A9A6-47E51C8D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95C-A14B-4F45-B385-1B9E6BC9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0C7FBB-C7F4-4216-8BA5-759E15A751C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DCBA18-1492-4274-9476-CCB2399F42B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khabphoto.ru/gallery.php?gallery_id=334&amp;mode=journal" TargetMode="External"/><Relationship Id="rId2" Type="http://schemas.openxmlformats.org/officeDocument/2006/relationships/hyperlink" Target="http://www.angel-killmysoulkillme.net/2012/02/15-2009.html" TargetMode="External"/><Relationship Id="rId3" Type="http://schemas.openxmlformats.org/officeDocument/2006/relationships/hyperlink" Target="http://900igr.net/kartinki/geografija/Bezmolvnaja-Arktika/062-Problemy-Arktiki.html" TargetMode="External"/><Relationship Id="rId4" Type="http://schemas.openxmlformats.org/officeDocument/2006/relationships/hyperlink" Target="http://rsnews.net/index.phtml?show=article&amp;id=7303&amp;lang=RUS" TargetMode="External"/><Relationship Id="rId5" Type="http://schemas.openxmlformats.org/officeDocument/2006/relationships/hyperlink" Target="http://www.mota.ru/wallpapers/get/id/1007/resolution/320x480" TargetMode="External"/><Relationship Id="rId6" Type="http://schemas.openxmlformats.org/officeDocument/2006/relationships/hyperlink" Target="http://good-fon.ru/gdefon/allwallpapers/full/257113-newwallpapers" TargetMode="External"/><Relationship Id="rId7" Type="http://schemas.openxmlformats.org/officeDocument/2006/relationships/hyperlink" Target="http://www.russian-travels.ru/foto2/shyrotka/g_3.php?number=3" TargetMode="External"/><Relationship Id="rId8" Type="http://schemas.openxmlformats.org/officeDocument/2006/relationships/hyperlink" Target="http://900igr.net/fotografii/geografija/Bezmolvnaja-Arktika/049-Zapovednik-Ostrov-Vrangelja.html" TargetMode="External"/><Relationship Id="rId9" Type="http://schemas.openxmlformats.org/officeDocument/2006/relationships/hyperlink" Target="http://my-sedovo.narod.ru/RPUACOM.html" TargetMode="External"/><Relationship Id="rId10" Type="http://schemas.openxmlformats.org/officeDocument/2006/relationships/hyperlink" Target="http://travel.ria.ru/photo/20101217/222973526_2.html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.kinopoisk.ru/im/kadr/5/7/7/kinopoisk.ru-Arctic-Tale-57752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а 3 из 103413"/>
          <p:cNvPicPr/>
          <p:nvPr/>
        </p:nvPicPr>
        <p:blipFill>
          <a:blip r:embed="rId1"/>
          <a:stretch/>
        </p:blipFill>
        <p:spPr>
          <a:xfrm>
            <a:off x="0" y="0"/>
            <a:ext cx="916092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357280" y="142920"/>
            <a:ext cx="4071600" cy="3639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714320" y="4929120"/>
            <a:ext cx="6071760" cy="91260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42960" y="1643040"/>
            <a:ext cx="800064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1500" spc="-1" strike="noStrike">
                <a:solidFill>
                  <a:srgbClr val="002060"/>
                </a:solidFill>
                <a:latin typeface="Book Antiqua"/>
              </a:rPr>
              <a:t>АРКТИК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2 из 155823"/>
          <p:cNvPicPr/>
          <p:nvPr/>
        </p:nvPicPr>
        <p:blipFill>
          <a:blip r:embed="rId1"/>
          <a:stretch/>
        </p:blipFill>
        <p:spPr>
          <a:xfrm>
            <a:off x="1928880" y="571320"/>
            <a:ext cx="5398200" cy="359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Картинка 14 из 103413"/>
          <p:cNvPicPr/>
          <p:nvPr/>
        </p:nvPicPr>
        <p:blipFill>
          <a:blip r:embed="rId2"/>
          <a:stretch/>
        </p:blipFill>
        <p:spPr>
          <a:xfrm>
            <a:off x="214200" y="3714840"/>
            <a:ext cx="3857400" cy="2887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42920" y="142920"/>
            <a:ext cx="87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ржам и тюленям не даёт замёрзнуть толстый слой подкожного ж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Картинка 53 из 246"/>
          <p:cNvPicPr/>
          <p:nvPr/>
        </p:nvPicPr>
        <p:blipFill>
          <a:blip r:embed="rId3"/>
          <a:stretch/>
        </p:blipFill>
        <p:spPr>
          <a:xfrm>
            <a:off x="4605480" y="3786120"/>
            <a:ext cx="4310640" cy="281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85840" y="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алистых берегах – птичьи база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гнездится множество морских птиц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рики, кайры, тупики, чайки, г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20 из 2954"/>
          <p:cNvPicPr/>
          <p:nvPr/>
        </p:nvPicPr>
        <p:blipFill>
          <a:blip r:embed="rId1"/>
          <a:stretch/>
        </p:blipFill>
        <p:spPr>
          <a:xfrm>
            <a:off x="214200" y="1285920"/>
            <a:ext cx="5071680" cy="380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Картинка 6 из 2954"/>
          <p:cNvPicPr/>
          <p:nvPr/>
        </p:nvPicPr>
        <p:blipFill>
          <a:blip r:embed="rId2"/>
          <a:stretch/>
        </p:blipFill>
        <p:spPr>
          <a:xfrm>
            <a:off x="3857760" y="3286080"/>
            <a:ext cx="5076360" cy="338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0" y="142920"/>
            <a:ext cx="8857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дах северных морей, где проходят тёплые течения, обитает великолепное животное – гренландский к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dekatop.com/wp-content/uploads/2011/04/animal_07.jpg"/>
          <p:cNvPicPr/>
          <p:nvPr/>
        </p:nvPicPr>
        <p:blipFill>
          <a:blip r:embed="rId1"/>
          <a:stretch/>
        </p:blipFill>
        <p:spPr>
          <a:xfrm>
            <a:off x="785880" y="1000080"/>
            <a:ext cx="7271640" cy="55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285840"/>
            <a:ext cx="850068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ЖИВОТНОМ 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14200" y="1285920"/>
            <a:ext cx="864360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отных арктической зоны кормит ….         Морскими водорослями питаются …      , а ими - …. Основная пища и животных – это …      На скалистых берегах собираются …         , …          и …            , здесь они выводят …                 . Птиц с необычными клювами называют ….           . Все звери – прекрасные …           . От холода их защищает …                 .         Это …           и ….          . На тюленей охотятся …           У них длинная  густая шерсть …           цвета                 и …               лапы, чтобы удобнее бы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6077520" y="1214280"/>
            <a:ext cx="918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506920" y="1714320"/>
            <a:ext cx="1043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а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7720920" y="1714320"/>
            <a:ext cx="1019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362920" y="2214720"/>
            <a:ext cx="937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3435840" y="2571840"/>
            <a:ext cx="1069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ч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9400" y="2571840"/>
            <a:ext cx="11138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кай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6293880" y="2571840"/>
            <a:ext cx="13287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гаг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2297160" y="3071880"/>
            <a:ext cx="17445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ото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364560" y="3500280"/>
            <a:ext cx="12538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уп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22120" y="3857760"/>
            <a:ext cx="132408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лов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510880" y="3857760"/>
            <a:ext cx="17431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935640" y="4214880"/>
            <a:ext cx="119772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о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508120" y="4214880"/>
            <a:ext cx="130716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тю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7365960" y="4286160"/>
            <a:ext cx="14292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медв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4935960" y="4714920"/>
            <a:ext cx="11840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ел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579600" y="5143680"/>
            <a:ext cx="152064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широ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38040" y="5715000"/>
            <a:ext cx="4770000" cy="516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передвигаться по льду и сн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85840" y="285840"/>
            <a:ext cx="8500680" cy="8211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ДОПОЛНИ  РАССКАЗ  О РАСТИТЕ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МИРЕ АР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357120" y="1785960"/>
            <a:ext cx="8429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островах прямо на голых ….       встречаются ….                     , они очень … Также приспособились к жизни на камнях …  и ….                        . В толще воды,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ой …             , большое кол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429160" y="178596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камн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643120" y="2286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ишай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286760" y="2214720"/>
            <a:ext cx="13568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7929720" y="2786040"/>
            <a:ext cx="92844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85880" y="3286080"/>
            <a:ext cx="285732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полярные м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286000" y="3929040"/>
            <a:ext cx="16426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ль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28760" y="4572000"/>
            <a:ext cx="257148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водорос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3071880" y="4786200"/>
            <a:ext cx="14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42920" y="214200"/>
            <a:ext cx="8786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не является коренным жителем Арктики, но она всегда привлекала людей своей загадочностью. На островах и во льдах Северного Ледовитого океана работают научные стан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Картинка 4 из 3567"/>
          <p:cNvPicPr/>
          <p:nvPr/>
        </p:nvPicPr>
        <p:blipFill>
          <a:blip r:embed="rId1"/>
          <a:stretch/>
        </p:blipFill>
        <p:spPr>
          <a:xfrm>
            <a:off x="285840" y="1500120"/>
            <a:ext cx="4357440" cy="326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Картинка 48 из 3566"/>
          <p:cNvPicPr/>
          <p:nvPr/>
        </p:nvPicPr>
        <p:blipFill>
          <a:blip r:embed="rId2"/>
          <a:stretch/>
        </p:blipFill>
        <p:spPr>
          <a:xfrm>
            <a:off x="3786120" y="2857320"/>
            <a:ext cx="5076360" cy="38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214200" y="0"/>
            <a:ext cx="6143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14200" y="142920"/>
            <a:ext cx="86436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ложен северный морской путь, так идут караваны с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Картинка 3 из 370"/>
          <p:cNvPicPr/>
          <p:nvPr/>
        </p:nvPicPr>
        <p:blipFill>
          <a:blip r:embed="rId1"/>
          <a:stretch/>
        </p:blipFill>
        <p:spPr>
          <a:xfrm>
            <a:off x="1214280" y="1214280"/>
            <a:ext cx="6500520" cy="542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42920" y="0"/>
            <a:ext cx="5357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214200" y="5857920"/>
            <a:ext cx="8715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 занимаются рыболовством, ох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Картинка 1 из 2850"/>
          <p:cNvPicPr/>
          <p:nvPr/>
        </p:nvPicPr>
        <p:blipFill>
          <a:blip r:embed="rId1"/>
          <a:stretch/>
        </p:blipFill>
        <p:spPr>
          <a:xfrm>
            <a:off x="214200" y="285840"/>
            <a:ext cx="8643600" cy="54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Картинка 15 из 246"/>
          <p:cNvPicPr/>
          <p:nvPr/>
        </p:nvPicPr>
        <p:blipFill>
          <a:blip r:embed="rId1"/>
          <a:stretch/>
        </p:blipFill>
        <p:spPr>
          <a:xfrm>
            <a:off x="214200" y="1214280"/>
            <a:ext cx="7566840" cy="45003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14200" y="214200"/>
            <a:ext cx="8572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а редких животных, ограничение рыбной ловли, создание запове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285920" y="6215040"/>
            <a:ext cx="2857320" cy="3639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СТРОВ ВРАН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357880" y="3714840"/>
            <a:ext cx="3500280" cy="28328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Организован в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1976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 году. На остров прилетает большое количество птиц для гнездовья. Здесь можно встретить редкую птицу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розовую чайку. 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На острове обитает самое крупное из копытных животных Арктики –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овцебык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 Это единственное место, где гнездятся </a:t>
            </a: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белые гуси</a:t>
            </a:r>
            <a:r>
              <a:rPr b="0" i="1" lang="ru-RU" sz="1800" spc="-1" strike="noStrike">
                <a:solidFill>
                  <a:schemeClr val="dk1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000160" y="285840"/>
            <a:ext cx="521460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8573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28573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8573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28573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28573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28573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9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2" name="Прямоугольник 12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3" name="Прямоугольник 13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4"/>
          <p:cNvSpPr/>
          <p:nvPr/>
        </p:nvSpPr>
        <p:spPr>
          <a:xfrm>
            <a:off x="28573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5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6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78" name="Прямоугольник 18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9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0" name="Прямоугольник 20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1" name="Прямоугольник 21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2" name="Прямоугольник 22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3" name="Прямоугольник 23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4" name="Прямоугольник 24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5" name="Прямоугольник 25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6" name="Прямоугольник 26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7" name="Прямоугольник 27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8" name="Прямоугольник 28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89" name="Прямоугольник 29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0" name="Прямоугольник 30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1" name="Прямоугольник 31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2" name="Прямоугольник 32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3" name="Прямоугольник 33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4" name="Прямоугольник 34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5" name="Прямоугольник 35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6" name="Прямоугольник 36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7" name="Прямоугольник 37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8" name="Прямоугольник 38"/>
          <p:cNvSpPr/>
          <p:nvPr/>
        </p:nvSpPr>
        <p:spPr>
          <a:xfrm>
            <a:off x="235728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9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00" name="Прямоугольник 40"/>
          <p:cNvSpPr/>
          <p:nvPr/>
        </p:nvSpPr>
        <p:spPr>
          <a:xfrm>
            <a:off x="235728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1"/>
          <p:cNvSpPr/>
          <p:nvPr/>
        </p:nvSpPr>
        <p:spPr>
          <a:xfrm>
            <a:off x="185724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2"/>
          <p:cNvSpPr/>
          <p:nvPr/>
        </p:nvSpPr>
        <p:spPr>
          <a:xfrm>
            <a:off x="335772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3"/>
          <p:cNvSpPr/>
          <p:nvPr/>
        </p:nvSpPr>
        <p:spPr>
          <a:xfrm>
            <a:off x="385776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4"/>
          <p:cNvSpPr/>
          <p:nvPr/>
        </p:nvSpPr>
        <p:spPr>
          <a:xfrm>
            <a:off x="435780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5"/>
          <p:cNvSpPr/>
          <p:nvPr/>
        </p:nvSpPr>
        <p:spPr>
          <a:xfrm>
            <a:off x="335772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6"/>
          <p:cNvSpPr/>
          <p:nvPr/>
        </p:nvSpPr>
        <p:spPr>
          <a:xfrm>
            <a:off x="385776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7"/>
          <p:cNvSpPr/>
          <p:nvPr/>
        </p:nvSpPr>
        <p:spPr>
          <a:xfrm>
            <a:off x="435780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8"/>
          <p:cNvSpPr/>
          <p:nvPr/>
        </p:nvSpPr>
        <p:spPr>
          <a:xfrm>
            <a:off x="38577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9"/>
          <p:cNvSpPr/>
          <p:nvPr/>
        </p:nvSpPr>
        <p:spPr>
          <a:xfrm>
            <a:off x="435780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0"/>
          <p:cNvSpPr/>
          <p:nvPr/>
        </p:nvSpPr>
        <p:spPr>
          <a:xfrm>
            <a:off x="485784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1"/>
          <p:cNvSpPr/>
          <p:nvPr/>
        </p:nvSpPr>
        <p:spPr>
          <a:xfrm>
            <a:off x="485784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2"/>
          <p:cNvSpPr/>
          <p:nvPr/>
        </p:nvSpPr>
        <p:spPr>
          <a:xfrm>
            <a:off x="4857840" y="242892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3"/>
          <p:cNvSpPr/>
          <p:nvPr/>
        </p:nvSpPr>
        <p:spPr>
          <a:xfrm>
            <a:off x="435780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4"/>
          <p:cNvSpPr/>
          <p:nvPr/>
        </p:nvSpPr>
        <p:spPr>
          <a:xfrm>
            <a:off x="5357880" y="292896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5"/>
          <p:cNvSpPr/>
          <p:nvPr/>
        </p:nvSpPr>
        <p:spPr>
          <a:xfrm>
            <a:off x="23572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6"/>
          <p:cNvSpPr/>
          <p:nvPr/>
        </p:nvSpPr>
        <p:spPr>
          <a:xfrm>
            <a:off x="33577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7"/>
          <p:cNvSpPr/>
          <p:nvPr/>
        </p:nvSpPr>
        <p:spPr>
          <a:xfrm>
            <a:off x="535788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8"/>
          <p:cNvSpPr/>
          <p:nvPr/>
        </p:nvSpPr>
        <p:spPr>
          <a:xfrm>
            <a:off x="585792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9"/>
          <p:cNvSpPr/>
          <p:nvPr/>
        </p:nvSpPr>
        <p:spPr>
          <a:xfrm>
            <a:off x="6357960" y="342900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0"/>
          <p:cNvSpPr/>
          <p:nvPr/>
        </p:nvSpPr>
        <p:spPr>
          <a:xfrm>
            <a:off x="385776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61"/>
          <p:cNvSpPr/>
          <p:nvPr/>
        </p:nvSpPr>
        <p:spPr>
          <a:xfrm>
            <a:off x="3357720" y="39290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2"/>
          <p:cNvSpPr/>
          <p:nvPr/>
        </p:nvSpPr>
        <p:spPr>
          <a:xfrm>
            <a:off x="435780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3"/>
          <p:cNvSpPr/>
          <p:nvPr/>
        </p:nvSpPr>
        <p:spPr>
          <a:xfrm>
            <a:off x="385776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4"/>
          <p:cNvSpPr/>
          <p:nvPr/>
        </p:nvSpPr>
        <p:spPr>
          <a:xfrm>
            <a:off x="335772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5"/>
          <p:cNvSpPr/>
          <p:nvPr/>
        </p:nvSpPr>
        <p:spPr>
          <a:xfrm>
            <a:off x="2357280" y="44290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8"/>
          <p:cNvSpPr/>
          <p:nvPr/>
        </p:nvSpPr>
        <p:spPr>
          <a:xfrm>
            <a:off x="335772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9"/>
          <p:cNvSpPr/>
          <p:nvPr/>
        </p:nvSpPr>
        <p:spPr>
          <a:xfrm>
            <a:off x="3857760" y="142884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70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29" name="Прямоугольник 71"/>
          <p:cNvSpPr/>
          <p:nvPr/>
        </p:nvSpPr>
        <p:spPr>
          <a:xfrm>
            <a:off x="3357720" y="1928880"/>
            <a:ext cx="499680" cy="4996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500120" y="214200"/>
            <a:ext cx="642924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바탕"/>
                <a:ea typeface="바탕"/>
              </a:rPr>
              <a:t>ПРОВЕРИМ 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14200" y="785880"/>
            <a:ext cx="4714560" cy="58503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Самое большое озеро в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неж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спий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2. Река, впадающая в Каспийское мор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К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3. Река, соединяющая озеро Байкал с Северным Ледовитым океано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Ен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4. Самая длинная река Росс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5. В список Всемирного наследия внес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Бел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Озеро 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785880"/>
            <a:ext cx="3857400" cy="14612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6. Какие озёра в народе называют «Онего-батюшко и Ладога-матуш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Аральское и Каспийское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Ладожское и Онежское оз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857920" y="3214800"/>
            <a:ext cx="2499840" cy="30758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800" spc="-1" strike="noStrike">
                <a:solidFill>
                  <a:schemeClr val="dk1"/>
                </a:solidFill>
                <a:latin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habphoto.ru/gallery.php?gallery_id=334&amp;mode=jour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ngel-killmysoulkillme.net/2012/02/15-2009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900igr.net/kartinki/geografija/Bezmolvnaja-Arktika/062-Problemy-Arktiki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snews.net/index.phtml?show=article&amp;id=7303&amp;lang=R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mota.ru/wallpapers/get/id/1007/resolution/320x48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good-fon.ru/gdefon/allwallpapers/full/257113-newwallpap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russian-travels.ru/foto2/shyrotka/g_3.php?number=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900igr.net/fotografii/geografija/Bezmolvnaja-Arktika/049-Zapovednik-Ostrov-Vrangelja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-sedovo.narod.ru/RPUACOM.ht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travel.ria.ru/photo/20101217/222973526_2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лан урок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итель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тный ми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артинка 18 из 103413"/>
          <p:cNvPicPr/>
          <p:nvPr/>
        </p:nvPicPr>
        <p:blipFill>
          <a:blip r:embed="rId1"/>
          <a:stretch/>
        </p:blipFill>
        <p:spPr>
          <a:xfrm>
            <a:off x="0" y="0"/>
            <a:ext cx="930060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57120" y="357120"/>
            <a:ext cx="835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центральная часть Северного Ледовитого океана с островами и прилегающими побережьями мате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10 из 10341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57120" y="357120"/>
            <a:ext cx="82864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имат этой полярной области очень разнообразен. Холодные порывистые ветры гуляют по безмолвным снежным просторам. Здесь долгая и холодная зима и короткое холодное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а 20 из 103413"/>
          <p:cNvPicPr/>
          <p:nvPr/>
        </p:nvPicPr>
        <p:blipFill>
          <a:blip r:embed="rId1"/>
          <a:stretch/>
        </p:blipFill>
        <p:spPr>
          <a:xfrm>
            <a:off x="0" y="0"/>
            <a:ext cx="4571640" cy="6874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4786200" y="428760"/>
            <a:ext cx="4000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ыми пустынями называют огромное пространство Севера, где только льды да снега. Всё белым-бело до боли в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рктике несколько месяцев не заходит солнце – продолжается полярный день. Зимой наступает полярная ночь: темным-темно и совсем хол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571840" y="857160"/>
            <a:ext cx="4643280" cy="30157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Что за чудо-чуд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агорелись небе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Ой, горит-пылает пла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ад сверкающими льд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Кто зажёг огонь чудес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Золотой костёр небес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Никого за тучей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Times New Roman"/>
              </a:rPr>
              <a:t>Это с неба льётся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85840" y="5929200"/>
            <a:ext cx="3785760" cy="45540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СЕВЕР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Картинка 2 из 27750"/>
          <p:cNvPicPr/>
          <p:nvPr/>
        </p:nvPicPr>
        <p:blipFill>
          <a:blip r:embed="rId1"/>
          <a:stretch/>
        </p:blipFill>
        <p:spPr>
          <a:xfrm>
            <a:off x="142920" y="142920"/>
            <a:ext cx="871848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артинка 25 из 103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6344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14200" y="4786200"/>
            <a:ext cx="87152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кан Арктики – белый медведь – сутками бродит по снежной пустыне в поисках добы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ярные медведи – самые сильные и крупные животные Арктики, на них никто не напад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85840" y="514368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омные белые медведи имеют великолепный нюх и могут очень быстро бегать по льду, преследуя жертву. Он так силён, что может убить человека одним ударом лап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Картинка 8 из 114602"/>
          <p:cNvPicPr/>
          <p:nvPr/>
        </p:nvPicPr>
        <p:blipFill>
          <a:blip r:embed="rId1"/>
          <a:stretch/>
        </p:blipFill>
        <p:spPr>
          <a:xfrm>
            <a:off x="285840" y="285840"/>
            <a:ext cx="8447040" cy="478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  <Words>1272</Words>
  <Paragraphs>269</Paragraphs>
  <Company>школа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31:12Z</dcterms:created>
  <dc:creator>user</dc:creator>
  <dc:description/>
  <dc:language>en-US</dc:language>
  <cp:lastModifiedBy>LEGION2</cp:lastModifiedBy>
  <dcterms:modified xsi:type="dcterms:W3CDTF">2015-04-28T07:17:08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